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66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66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66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66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66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66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66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66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66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66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66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66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66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66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66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66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66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66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66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66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66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66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66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66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66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66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66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66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66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66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66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66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66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66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66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66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66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66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66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66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66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66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66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66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66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66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66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66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66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66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88C3-5A30-4545-9BAE-3038BABF5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829760"/>
            <a:ext cx="7693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34C9-2636-4056-BF80-1711594D7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829760"/>
            <a:ext cx="375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829760"/>
            <a:ext cx="375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3FD2-D61A-4908-A184-053A40837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829760"/>
            <a:ext cx="247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829760"/>
            <a:ext cx="247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829760"/>
            <a:ext cx="247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48E3-24D1-46A8-A7CC-0125A2581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54BC5-6842-4DD2-A809-87FD316EA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D17B1-DB1C-43A4-8EDF-7C60B8877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D0D15-3B77-4887-AD48-9B6989130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3DE4B-AE19-41CC-88F8-5E397953E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67C1B-8B50-483C-A57E-626115579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C2E8F-3764-43A8-AF54-2B7FF4552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829760"/>
            <a:ext cx="375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30BE6-307B-4C75-97A3-77BC65DC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2A8B-9EAE-440E-A300-198A7E538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829760"/>
            <a:ext cx="375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E6E38-22E3-4A0E-A025-B66330C9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829760"/>
            <a:ext cx="7693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F7AF8-151F-4E20-9FA4-2E5390CA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829760"/>
            <a:ext cx="7693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BF131-7869-4EA3-A4A1-8D230CED4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829760"/>
            <a:ext cx="375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829760"/>
            <a:ext cx="375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DC033-17E8-4020-A96D-9659B3AB9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829760"/>
            <a:ext cx="247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829760"/>
            <a:ext cx="247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829760"/>
            <a:ext cx="247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D8FFB-E0BE-4684-8196-E8335C410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7A3D-2DB5-4AD2-B29B-24FD992DB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85A3-1B8A-41EA-84A0-DD93A1346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0653-CDF0-47F6-9501-1CE871EF0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C3B0-CA98-4A99-AE47-C8D3D3606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829760"/>
            <a:ext cx="375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F53D-164E-4521-8F77-70BE077B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829760"/>
            <a:ext cx="375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3EF5-400E-47C2-94D3-C9482B60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829760"/>
            <a:ext cx="7693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3602-73EC-484F-A998-E231C262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A706B-1076-4B19-BC1C-9B5E65F1475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7066D-FA90-4FED-BDA6-EC15478E8AC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hapter 7</a:t>
            </a:r>
            <a:br>
              <a:rPr sz="24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EMOCRACY IN DISTRESS </a:t>
            </a:r>
            <a:br>
              <a:rPr sz="32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e Violence of Party Politics, 1788–1800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724280" y="274320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66"/>
                </a:solidFill>
                <a:latin typeface="Arial"/>
              </a:rPr>
              <a:t>America Past and Present</a:t>
            </a:r>
            <a:endParaRPr b="0" lang="en-US" sz="22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66"/>
                </a:solidFill>
                <a:latin typeface="Arial"/>
              </a:rPr>
              <a:t>Eighth Edition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Divine</a:t>
            </a:r>
            <a:r>
              <a:rPr b="0" lang="en-US" sz="1600" spc="-1" strike="noStrike">
                <a:solidFill>
                  <a:srgbClr val="006666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6666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006666"/>
                </a:solidFill>
                <a:latin typeface="Times New Roman"/>
              </a:rPr>
              <a:t> </a:t>
            </a: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Breen</a:t>
            </a:r>
            <a:r>
              <a:rPr b="0" lang="en-US" sz="1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6666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006666"/>
                </a:solidFill>
                <a:latin typeface="Times New Roman"/>
              </a:rPr>
              <a:t> </a:t>
            </a: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Fredrickson</a:t>
            </a:r>
            <a:r>
              <a:rPr b="0" lang="en-US" sz="1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6666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006666"/>
                </a:solidFill>
                <a:latin typeface="Times New Roman"/>
              </a:rPr>
              <a:t> </a:t>
            </a: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Williams</a:t>
            </a:r>
            <a:r>
              <a:rPr b="0" lang="en-US" sz="1600" spc="-1" strike="noStrike">
                <a:solidFill>
                  <a:srgbClr val="006666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6666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006666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Gross  </a:t>
            </a:r>
            <a:r>
              <a:rPr b="0" lang="en-US" sz="1600" spc="-1" strike="noStrike">
                <a:solidFill>
                  <a:srgbClr val="006666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006666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Brand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70160" y="766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705560" y="6459480"/>
            <a:ext cx="381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Arial"/>
              </a:rPr>
              <a:t>Copyright 2007, Pearson Education, Inc., publishing as Longman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838080"/>
            <a:ext cx="7740720" cy="112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arges of Treason: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Battle over Foreign Affairs 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09720" y="2685960"/>
            <a:ext cx="7407360" cy="349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rench Revolutionary Wars shaped U.S. political divis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Jeffersonian Republican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avored Fran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tates’ righ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trict interpretation of the Constitution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amiltonian Federalis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avored Englan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trong central government and economic plann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intenance of order by federal troop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Peril of Neutralit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0360" y="24382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ritish still occupied Ohio River Valley and discriminated against American tra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anco-British War broke out, 179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gland violated American sovereignty and neutrality on high se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Jefferson: punish England by cutting off trad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amilton: appease England because too stro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ench diplomat Edmond Genet challenged American neutrality repeatedly in publi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Jay’s Treaty Sparks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omestic Unres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2619000"/>
            <a:ext cx="7693200" cy="446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ohn Jay to England to demand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oval of English from American soi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yment for ships illegally seiz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tter commercial rela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cceptance of United States’ neutra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milton informed English that U.S. not fir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ay’s Treaty won no concess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ashington disliked, but accepted, trea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Jay’s Treaty Sparks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omestic Unres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nate ratified by smallest possible marg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wspapers viciously attacked trea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publicans, press criticized Washingt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arification of executive privilege in national security affai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ouse demanded papers related to Jay’s miss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ashington claimed right to withhold national security secre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ashington’s prestige muted criticism, but bitter partisan division already entrench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9140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ushing the Native Americans Aside: The Ohio Count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61760" y="2437920"/>
            <a:ext cx="7692840" cy="407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ritish encouraged Indians to attack settlers as they withdraw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ttle of Fallen Timbers (1794)—U.S. army defeated alliance of Indian nations in Oh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eaty of Greenville (1794)—forced Indian removal from Ohi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ritish withdrew support from Indians, pulled back into Cana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ushing the Native Americans Aside: New Orleans and Flori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0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pain had closed Mississippi River to America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pain interpreted Jay’s Treaty as Anglo-American alliance against Spa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eaty of San Lorenzo (Pinckney’s Treaty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panish opened the Mississippi to U.S. We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ttled disputed border between Florida and U.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panish ceased inciting Indians against settl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quest of the Wes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2057400" y="2362320"/>
            <a:ext cx="578160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pular Political Cultu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litical “parties” condemned as fac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despread concern over loss of common revolutionary purpo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ederalists and Republicans suspected each others’ loyal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rty members thought it a patriotic duty to destroy opposing par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forming the Public: 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ews and Politic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2484360"/>
            <a:ext cx="76932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mon people highly litera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wspapers widely read, highly influenti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wspapers shrill, totally partis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litical clubs promoted political ide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ubs associated with Republican par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wspapers and clubs the main sources of political informatio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iskey Rebellion: Charges of Republican Conspirac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2492280"/>
            <a:ext cx="7693200" cy="459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cise tax on whiskey imposed 179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794—Pennsylvania farmers protest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publican governor refused to ac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ederalists interpreted as Republican conspirac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ashington and Hamilton led 15,000-man army to crush the rebell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bels could not be foun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ashington blamed Republican clubs for encouraging unre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Jefferson saw it as excuse to raise army to intimidate opposi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rce of Public Opin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Root cause of political parties: ambiguity of republican ideology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Federalists (Hamiltonians) 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Rapid integration into world economy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Distrusted common man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Strong national institutions 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Republicans (Jeffersonians)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Faith in white yeoman farmers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With no government intrusion, they could retain virtue and resist crass materialism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New dynamic public opinion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Average people no longer deferred to their social “betters”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ashington’s Farewel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ashington increasingly sympathetic to Federalis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all 1796—Washington released Farewell Address, written by Hamilt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nouncement timed to prevent Republican organization of presidential campaig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arned against permanent “foreign entanglements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Election of 1796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0" t="14971" r="0" b="0"/>
          <a:stretch/>
        </p:blipFill>
        <p:spPr>
          <a:xfrm>
            <a:off x="1066680" y="2895480"/>
            <a:ext cx="777240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Adams Presidenc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itterly divisive election in 1796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ederalists divided, Hamilton tried to push Pinckney over Ada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ams forced to accept people not supportive in cabin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publican Jefferson is vice-presid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ederalist Department heads more loyal to Hamilton than Adam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XYZ Affair and Domestic Politic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2426760"/>
            <a:ext cx="7693200" cy="465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ay’s Treaty prompted France to treat U.S. as unfriendly natio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uasi-war: French seized U.S. ship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plomatic mission failed when three French officials (X, Y, and Z) demanded brib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voked anti-French outrage in U.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ederalists attempted to crush Republicans by branding as pro-Fren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rushing Political Diss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ederalists began building up the arm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stensible purpose: repel French invas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ctual intention: stifle internal opposi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milton commanded army, controlled officer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milton sought declaration of war against France to begin operations against diss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ams created navy, refused to ask Congress for wa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ilencing Political Opposition: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Alien and Sedition Ac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21560" cy="429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ien and Sedition Ac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 to silence Republica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rst civil liberties crisi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ien Enemies Act and Alien Act gave the president power to expel any foreign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Naturalization Act required U.S. residency of fourteen years for citizenshi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dition Act criminalized criticism of the govern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ederalist appointees in federal courts enforced Sedition Act in absurd way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publican Congressman Mathew Lyon arrested, won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-election from jai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Kentucky and Virginia Resolu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publicans saw Alien and Sedition Acts as dire threat to liber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irginia and Kentucky Resolutions said states have final say in determining constitutionality of federal law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Jefferson’s Kentucky Resolutions—states may nullify unconstitutional federal law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dison's Virginia Resolutions—urged states to protect their citizen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urpose of resolutions: clarify differences between Republicans and Federalists, not justify secess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ams’s Finest Hou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799—Adams broke with Hamilt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nt new team to negotiate with Fr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ar hysteria against France vanish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milton’s army seen as a useless expen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vention of Mortefontai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 compensation for seized American ship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778 treaties null and voi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rench restrictions on U.S. commerce remov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reated climate of trust between France and U.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Peaceful Revolution: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Election of 180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09720" y="2757600"/>
            <a:ext cx="7549920" cy="429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amilton’s High Federalists led campaign to replace Adams with Pinckne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ederalists lost, but Republicans Jefferson and Burr ti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ame duck Federalist House of Representatives would break the t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amilton and Federalists decided Jefferson better than Bur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welfth Amendment separated votes for president and vice-president to avoid repeat of this situ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Peaceful Revolution: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Election of 180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ams and the “midnight judges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hief Justice John Marshal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efferson’s inaugural: “we are all republicans, we are all federalists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ederalists lost touch with publi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185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inciple and Pragmatism: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stablishing a New Govern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22120" y="2776680"/>
            <a:ext cx="7265880" cy="37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eorge Washington unanimously elected president, 1788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ashington’s skilled use of symbols of power were key to his presidential succes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rand tours 1789, 1791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gress established three executive departments: War, State, and Treasur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Judiciary Act of 1789 established Supreme Court and thirteen District Cour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789—5% tariff levied to fund govern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Election of 180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0" t="17469" r="0" b="0"/>
          <a:stretch/>
        </p:blipFill>
        <p:spPr>
          <a:xfrm>
            <a:off x="1143000" y="2971800"/>
            <a:ext cx="76960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anger of Political Extremis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ection of 1800 one of the most importa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ansfer of power from Federalists to Republicans achieved peaceful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ation averted ideological civil wa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nflicting Visions: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lexander Hamilt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671560"/>
            <a:ext cx="7693200" cy="441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ashington’s aide-de-camp in Revolu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retary of the Treasu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anted stronger ties to Brita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lieved strong central government preserves national independ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visioned U.S. as an industrial pow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eared anarchy more than tyrann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nflicting Visions: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omas Jeffers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2550600"/>
            <a:ext cx="7693200" cy="45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retary of state under Washingt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lieved limited government preserves liberty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visioned U.S. as an agrarian natio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usted the common peop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gainst large deb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amilton’s Plan for Prosperity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nd Securit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2619000"/>
            <a:ext cx="7693200" cy="446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gress asked Hamilton for suggestions for solutions to debt proble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 produced three repor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ublic Credi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ank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nufactur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bt of $54 million, additional state debt of $25 mill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% of debt held by speculato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unding and Assump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243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unding: Congress redeems federal certificates of debt at face value to current hold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sisted bondholders support new governm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iticized by Madison and others because most debt in hands of speculato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sumption: federal government purchases states’ deb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pposed by states that had already paid their deb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dison at first led Congress to defeat the funding propos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ventually passed in exchange for locating capital on Potomac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terpreting the Constitution: 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Bank Controversy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2814120"/>
            <a:ext cx="7693200" cy="427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ational bank privately owned, partly funded by federal govern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posed because it might “perpetuate a large monied interest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efferson opposed it as unconstitutional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milton defended constitutionality through doctrine of “implied powers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gress chartered bank, 179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ed perception that Hamilton was bringing corrupt British system to Ameri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tback for Hamilt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port on Manufacturing (1791) sought federal encouragement for manufactur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tective tariffs and industrial bount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dison warned that program would strengthen federal government at state expen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efferson warned that the rise of cities would destroy agriculture and agrarian civic virtu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utherners opposed to protective  tariff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milton’s recommendations defeat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20:06:58Z</dcterms:created>
  <dc:creator>CMU</dc:creator>
  <dc:description/>
  <cp:keywords/>
  <dc:language>en-US</dc:language>
  <cp:lastModifiedBy>Barbara Witmer</cp:lastModifiedBy>
  <cp:lastPrinted>2006-10-10T00:37:18Z</cp:lastPrinted>
  <dcterms:modified xsi:type="dcterms:W3CDTF">2007-02-01T19:48:33Z</dcterms:modified>
  <cp:revision>39</cp:revision>
  <dc:subject/>
  <dc:title>CHAPTER 7  DEMOCRACY IN DISTRESS: THE VIOLENCE OF PARTY POLITICS, 1788-1800</dc:title>
</cp:coreProperties>
</file>